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7EE-24CC-4DB9-A085-9CBE07A3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3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F25-C57E-4811-A333-80F4D831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9D0-C9B6-4A21-8CFE-BA0A60E0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3D6-2358-4309-A13A-9BF746D5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5FA3-3A61-419D-8E87-2CD95290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A3CE-1A7B-400F-8826-B92C3EB3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79E7-DEF0-4569-9BD4-18CBCF4A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78EA-96B5-45D6-9C76-CAED423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1972-58DB-4FA5-B530-88F9EAAB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-76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8446-E202-4276-B58E-EBE20E96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2B92-F091-496B-AABA-D4318D2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C00-3A95-4B47-A10E-AD010C92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8F14-1E70-40E0-B686-30FDBC1F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3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EDBA-0C57-4BFE-95BA-6D28C9C3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33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9696-B63F-40FF-913C-02A02DB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ED40-027D-4FEF-A4B5-AF6FCC29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1D64-4785-48C1-85B5-12F81307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E2B-5DDD-49CA-97F2-AFE44000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E15-9101-481B-9D10-CD2021CE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588-D498-4AD2-8D93-FB6BE93F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76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96D-B685-44A4-A421-5B7294A5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C12-F642-4580-8F10-0EEDC16D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C4B-AC5A-4FFF-BECA-E31AE8F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3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CC4-967B-4EAE-8822-AE23F01E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5F31-AB1F-41CC-8CEF-E3A1290CE57C}" type="datetime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26/0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4EF0-6C7C-4263-8EAB-82521D2AFA67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9B77-FE14-433C-B8E6-B44041562AED}" type="datetime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26/0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1D5F-B9BC-4605-82CA-F9B541CC20B7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baru Observator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ftware System (SOSS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oshi Miyaza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u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S/WFM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47FF-8AD7-49D0-9990-1897DF6BE95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8E2BBF7-8BEF-448D-B058-A134F7E5A4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35000"/>
            <a:ext cx="8915400" cy="634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S/WFMOS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436-8365-417A-A844-02609309D7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9AC74-6A9C-425C-8F84-52E275E1B5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19:49Z</dcterms:created>
  <dc:creator>Satoshi Miyazaki</dc:creator>
  <dc:description/>
  <dc:language>en-US</dc:language>
  <cp:lastModifiedBy>Barnaby Smeaton</cp:lastModifiedBy>
  <dcterms:modified xsi:type="dcterms:W3CDTF">2008-12-08T00:12:38Z</dcterms:modified>
  <cp:revision>169</cp:revision>
  <dc:subject/>
  <dc:title>ダークエネルギー探査</dc:title>
</cp:coreProperties>
</file>