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861D40-37CB-4BA7-86F4-AD9C636AF5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685440"/>
            <a:ext cx="77724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685800" y="3710520"/>
            <a:ext cx="77724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6C1C09-E5B0-458E-BFC9-C8D3FE1C93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68544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3"/>
          <p:cNvSpPr>
            <a:spLocks noGrp="1"/>
          </p:cNvSpPr>
          <p:nvPr>
            <p:ph/>
          </p:nvPr>
        </p:nvSpPr>
        <p:spPr>
          <a:xfrm>
            <a:off x="4668480" y="68544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4"/>
          <p:cNvSpPr>
            <a:spLocks noGrp="1"/>
          </p:cNvSpPr>
          <p:nvPr>
            <p:ph/>
          </p:nvPr>
        </p:nvSpPr>
        <p:spPr>
          <a:xfrm>
            <a:off x="685800" y="371052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5"/>
          <p:cNvSpPr>
            <a:spLocks noGrp="1"/>
          </p:cNvSpPr>
          <p:nvPr>
            <p:ph/>
          </p:nvPr>
        </p:nvSpPr>
        <p:spPr>
          <a:xfrm>
            <a:off x="4668480" y="371052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DBB65B-6FDC-4975-9152-DE278B2281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685440"/>
            <a:ext cx="250236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3"/>
          <p:cNvSpPr>
            <a:spLocks noGrp="1"/>
          </p:cNvSpPr>
          <p:nvPr>
            <p:ph/>
          </p:nvPr>
        </p:nvSpPr>
        <p:spPr>
          <a:xfrm>
            <a:off x="3313800" y="685440"/>
            <a:ext cx="250236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4"/>
          <p:cNvSpPr>
            <a:spLocks noGrp="1"/>
          </p:cNvSpPr>
          <p:nvPr>
            <p:ph/>
          </p:nvPr>
        </p:nvSpPr>
        <p:spPr>
          <a:xfrm>
            <a:off x="5941440" y="685440"/>
            <a:ext cx="250236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5"/>
          <p:cNvSpPr>
            <a:spLocks noGrp="1"/>
          </p:cNvSpPr>
          <p:nvPr>
            <p:ph/>
          </p:nvPr>
        </p:nvSpPr>
        <p:spPr>
          <a:xfrm>
            <a:off x="685800" y="3710520"/>
            <a:ext cx="250236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6"/>
          <p:cNvSpPr>
            <a:spLocks noGrp="1"/>
          </p:cNvSpPr>
          <p:nvPr>
            <p:ph/>
          </p:nvPr>
        </p:nvSpPr>
        <p:spPr>
          <a:xfrm>
            <a:off x="3313800" y="3710520"/>
            <a:ext cx="250236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7"/>
          <p:cNvSpPr>
            <a:spLocks noGrp="1"/>
          </p:cNvSpPr>
          <p:nvPr>
            <p:ph/>
          </p:nvPr>
        </p:nvSpPr>
        <p:spPr>
          <a:xfrm>
            <a:off x="5941440" y="3710520"/>
            <a:ext cx="250236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98C9CF-153B-4269-B229-1683922AE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685440"/>
            <a:ext cx="7772400" cy="5791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A43245-4743-4D7E-9E43-D2A2F830D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685440"/>
            <a:ext cx="7772400" cy="5791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80E6B-9B7F-44A7-A3B0-E37E6030B7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685440"/>
            <a:ext cx="3792600" cy="5791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3"/>
          <p:cNvSpPr>
            <a:spLocks noGrp="1"/>
          </p:cNvSpPr>
          <p:nvPr>
            <p:ph/>
          </p:nvPr>
        </p:nvSpPr>
        <p:spPr>
          <a:xfrm>
            <a:off x="4668480" y="685440"/>
            <a:ext cx="3792600" cy="5791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7434B-4167-4EF8-B8AF-4815205A7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435F0-8989-4B0E-BA52-B4F661D74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A65703-4568-4BE5-A659-431DDA343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68544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3"/>
          <p:cNvSpPr>
            <a:spLocks noGrp="1"/>
          </p:cNvSpPr>
          <p:nvPr>
            <p:ph/>
          </p:nvPr>
        </p:nvSpPr>
        <p:spPr>
          <a:xfrm>
            <a:off x="4668480" y="685440"/>
            <a:ext cx="3792600" cy="5791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4"/>
          <p:cNvSpPr>
            <a:spLocks noGrp="1"/>
          </p:cNvSpPr>
          <p:nvPr>
            <p:ph/>
          </p:nvPr>
        </p:nvSpPr>
        <p:spPr>
          <a:xfrm>
            <a:off x="685800" y="371052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EA011-1D51-4595-B1D8-97BCD9A43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685440"/>
            <a:ext cx="3792600" cy="5791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668480" y="68544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4668480" y="371052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1E2B82-DC9E-4D40-86DC-DFD819773C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68544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668480" y="685440"/>
            <a:ext cx="37926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685800" y="3710520"/>
            <a:ext cx="7772400" cy="2762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F8E57-8515-43EA-844A-7B59DFF7BB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685440"/>
            <a:ext cx="777240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1" name="PlaceHolder 2"/>
          <p:cNvSpPr>
            <a:spLocks noGrp="1"/>
          </p:cNvSpPr>
          <p:nvPr>
            <p:ph type="ftr" idx="1"/>
          </p:nvPr>
        </p:nvSpPr>
        <p:spPr>
          <a:xfrm>
            <a:off x="3124080" y="655272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381880" y="6476760"/>
            <a:ext cx="609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B436-745E-41D8-80BB-82CD2375C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5640"/>
            <a:ext cx="8458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FMOS Design Study </a:t>
            </a:r>
            <a:br>
              <a:rPr sz="3200"/>
            </a:br>
            <a:r>
              <a:rPr b="0" lang="en-US" sz="3200" spc="-1" strike="noStrike">
                <a:solidFill>
                  <a:srgbClr val="000000"/>
                </a:solidFill>
                <a:latin typeface="Times New Roman"/>
              </a:rPr>
              <a:t>ICDs &amp; System Engineering </a:t>
            </a:r>
            <a:endParaRPr b="0" lang="en-US" sz="3200" spc="-1" strike="noStrike">
              <a:solidFill>
                <a:srgbClr val="000000"/>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ter Gray/Satoshi Miyazaki </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th Jan 2006</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sion 1</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FMOS Design Study Kick-off Meeting, Hilo</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B45CC088-0BC5-4174-A41E-DEF9168DA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xx</a:t>
            </a:r>
            <a:endParaRPr b="0" lang="en-US" sz="2000" spc="-1" strike="noStrike">
              <a:solidFill>
                <a:srgbClr val="000000"/>
              </a:solidFill>
              <a:latin typeface="Times New Roman"/>
            </a:endParaRPr>
          </a:p>
        </p:txBody>
      </p:sp>
      <p:sp>
        <p:nvSpPr>
          <p:cNvPr id="62"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xx</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CB0F3722-1910-422B-90FC-95BE8B5DB638}"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SYSTEM ENGINEERING</a:t>
            </a:r>
            <a:endParaRPr b="0" lang="en-US" sz="2000" spc="-1" strike="noStrike">
              <a:solidFill>
                <a:srgbClr val="000000"/>
              </a:solidFill>
              <a:latin typeface="Times New Roman"/>
            </a:endParaRPr>
          </a:p>
        </p:txBody>
      </p:sp>
      <p:sp>
        <p:nvSpPr>
          <p:cNvPr id="43" name="PlaceHolder 2"/>
          <p:cNvSpPr>
            <a:spLocks noGrp="1"/>
          </p:cNvSpPr>
          <p:nvPr>
            <p:ph/>
          </p:nvPr>
        </p:nvSpPr>
        <p:spPr>
          <a:xfrm>
            <a:off x="685440" y="837720"/>
            <a:ext cx="807732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 a formal system engineering approach during this phase will assign the coordination and management of the design study and allow a smooth transition in later design and build pha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 and appropriate level of system engineering “rigor” which best matches the needs of the conceptual design phase ie. allows enough flexibility and freedom  but allows some level of project controls and managem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design study teams have proposed following a system engineering based approach during the design study. We (Subaru/Gemini) propose to do the same. Why not coordinate these efforts as much as possible and adopt many shared standards and procedur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be able to do this without compromising the proprietary aspects of the competitive teams. Sharing standardized approaches, not detail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examples of a common system engineering approach:</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ize naming conventions as much as possible for major sub-system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a common coordinate system for telescope orienta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 one agreed product tree describing Subaru telescope and WFMOS sub-system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ilize product tree numbering system for documents and ICDs.</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36AF711C-E91A-4F2C-87EB-88359632EF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ING CONVENTIONS &amp; COORDINATE SYSTEM</a:t>
            </a:r>
            <a:endParaRPr b="0" lang="en-US" sz="2000" spc="-1" strike="noStrike">
              <a:solidFill>
                <a:srgbClr val="000000"/>
              </a:solidFill>
              <a:latin typeface="Times New Roman"/>
            </a:endParaRPr>
          </a:p>
        </p:txBody>
      </p:sp>
      <p:sp>
        <p:nvSpPr>
          <p:cNvPr id="45"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with Subaru engineering staff to define a naming convention for Subaru telescope systems and locations, ones most commonly used by Subaru staff and Mitsubishi. Will avoid confusion and misunderstandings. Define in document and schemati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ing if a standard coordinate system exists for Subaru, if so adopt this. If not, define one and release as a docum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6" name="" descr=""/>
          <p:cNvPicPr/>
          <p:nvPr/>
        </p:nvPicPr>
        <p:blipFill>
          <a:blip r:embed="rId1"/>
          <a:stretch/>
        </p:blipFill>
        <p:spPr>
          <a:xfrm>
            <a:off x="4876920" y="2819520"/>
            <a:ext cx="4267080" cy="3203280"/>
          </a:xfrm>
          <a:prstGeom prst="rect">
            <a:avLst/>
          </a:prstGeom>
          <a:ln w="0">
            <a:noFill/>
          </a:ln>
        </p:spPr>
      </p:pic>
      <p:pic>
        <p:nvPicPr>
          <p:cNvPr id="47" name="" descr=""/>
          <p:cNvPicPr/>
          <p:nvPr/>
        </p:nvPicPr>
        <p:blipFill>
          <a:blip r:embed="rId2"/>
          <a:stretch/>
        </p:blipFill>
        <p:spPr>
          <a:xfrm>
            <a:off x="1600200" y="2819520"/>
            <a:ext cx="2624040" cy="3504960"/>
          </a:xfrm>
          <a:prstGeom prst="rect">
            <a:avLst/>
          </a:prstGeom>
          <a:ln w="0">
            <a:noFill/>
          </a:ln>
        </p:spPr>
      </p:pic>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7C747476-DF82-4F8D-889D-98D0956DEB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 TREE</a:t>
            </a:r>
            <a:endParaRPr b="0" lang="en-US" sz="2000" spc="-1" strike="noStrike">
              <a:solidFill>
                <a:srgbClr val="000000"/>
              </a:solidFill>
              <a:latin typeface="Times New Roman"/>
            </a:endParaRPr>
          </a:p>
        </p:txBody>
      </p:sp>
      <p:sp>
        <p:nvSpPr>
          <p:cNvPr id="49"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 four level product tree for Subaru/WFMO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ed to be able to include all of Subaru telescope and instruments but initially is specifically for WFMOS projec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 include both options of WFMOS design study teams with a common structure at top levels, which can be expanded to use differently at detailed level.</a:t>
            </a:r>
            <a:endParaRPr b="0" lang="en-US" sz="1800" spc="-1" strike="noStrike">
              <a:solidFill>
                <a:srgbClr val="000000"/>
              </a:solidFill>
              <a:latin typeface="Times New Roman"/>
            </a:endParaRPr>
          </a:p>
        </p:txBody>
      </p:sp>
      <p:pic>
        <p:nvPicPr>
          <p:cNvPr id="50" name="" descr=""/>
          <p:cNvPicPr/>
          <p:nvPr/>
        </p:nvPicPr>
        <p:blipFill>
          <a:blip r:embed="rId1"/>
          <a:stretch/>
        </p:blipFill>
        <p:spPr>
          <a:xfrm>
            <a:off x="1143000" y="2514600"/>
            <a:ext cx="7086600" cy="3805200"/>
          </a:xfrm>
          <a:prstGeom prst="rect">
            <a:avLst/>
          </a:prstGeom>
          <a:ln w="0">
            <a:noFill/>
          </a:ln>
        </p:spPr>
      </p:pic>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4CFC5FFF-1EFC-4134-990F-5AB493476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CDs</a:t>
            </a:r>
            <a:endParaRPr b="0" lang="en-US" sz="2000" spc="-1" strike="noStrike">
              <a:solidFill>
                <a:srgbClr val="000000"/>
              </a:solidFill>
              <a:latin typeface="Times New Roman"/>
            </a:endParaRPr>
          </a:p>
        </p:txBody>
      </p:sp>
      <p:sp>
        <p:nvSpPr>
          <p:cNvPr id="52"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to use Gemini “standard” template for ICD ie each interface document attempts to describe a standard set of mechanical, electrical and other interfac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ing the distinction between interface documents and functional requireme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up into sufficient distinct and seperable interfaces to provide clear easy to find information and manageable flexibility of change contro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 of separating ICDs. Easier “defineable” ones and those which are under development and may evolve eg. Software interfac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all ICDs needed to fully specify WFMOS-Subaru system is extensive. Need to identify higher priority ones needed as soon as possible, those with less urgency and those which are the internal responsibility of the design study system engineer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FMOS/AAO team has provided a list of “Critical WFMOS Interfaces”. Needs to be discussed also with WFMOS/Caltech team and a final prioritized list deriv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FMOS ICD (which needs to be developed) as a starting point for WFMOS ICDs. Many specifications are simila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AE03B804-8C8C-4A52-9908-8CFE155345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ISED DOCUMENTATION NUMBERING</a:t>
            </a:r>
            <a:endParaRPr b="0" lang="en-US" sz="2000" spc="-1" strike="noStrike">
              <a:solidFill>
                <a:srgbClr val="000000"/>
              </a:solidFill>
              <a:latin typeface="Times New Roman"/>
            </a:endParaRPr>
          </a:p>
        </p:txBody>
      </p:sp>
      <p:sp>
        <p:nvSpPr>
          <p:cNvPr id="54" name="PlaceHolder 2"/>
          <p:cNvSpPr>
            <a:spLocks noGrp="1"/>
          </p:cNvSpPr>
          <p:nvPr>
            <p:ph/>
          </p:nvPr>
        </p:nvSpPr>
        <p:spPr>
          <a:xfrm>
            <a:off x="380880" y="837720"/>
            <a:ext cx="83822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to use the product tree as a standardized numbering system for ICDs and other Subaru/Gemini docume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able if design study teams could adopt the same document numbering system to allow easy tracking and organization of final documentation se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for smooth transition into final design and build pha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d document/drawing number: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FMOS-xx.xx.xx.xx-nnn-vv-abc</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xx.xx.xx.xx is product tree number for system/category, nnn is incremental number, vv is version number, abc is document type ie DOC, DWG, SPE, etc (tbd lis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d ICD number: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FMOS-xx.xx.xx.xx-yy.yy.yy.yy-vv-IC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xx.xx.xx.xx is product tree number for system with lower PT number, yy.yy.yy.yy is product tree number for system with higher PT number , vv is version number</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8E57CEBD-1E29-4B99-8CF4-524EA8045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REQUIREMENTS &amp; SPECIFICATIONS</a:t>
            </a:r>
            <a:endParaRPr b="0" lang="en-US" sz="2000" spc="-1" strike="noStrike">
              <a:solidFill>
                <a:srgbClr val="000000"/>
              </a:solidFill>
              <a:latin typeface="Times New Roman"/>
            </a:endParaRPr>
          </a:p>
        </p:txBody>
      </p:sp>
      <p:sp>
        <p:nvSpPr>
          <p:cNvPr id="5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 ICDs from documents describing functional requirements and specifications. ICDs are really for describing just the interfac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repare for design study work a number of additional documents will need to be prepared, these could includ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Engineering Definitions (describing document/ICD system, naming and coordinate conventions,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FMOS Subaru Product Tre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aru Telescope Operating Environmental Specifica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aru Telescope Optical Data and Major Dimens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cal Design Description and Specifications of WFMOS Corrector (Option1)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ware Development Guideli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mini Science Archive Descrip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5EF7D810-1323-44E0-AC3A-E3AADF60C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STATE OF SUBARU DOCUMENTATION</a:t>
            </a:r>
            <a:endParaRPr b="0" lang="en-US" sz="2000" spc="-1" strike="noStrike">
              <a:solidFill>
                <a:srgbClr val="000000"/>
              </a:solidFill>
              <a:latin typeface="Times New Roman"/>
            </a:endParaRPr>
          </a:p>
        </p:txBody>
      </p:sp>
      <p:sp>
        <p:nvSpPr>
          <p:cNvPr id="58" name="PlaceHolder 2"/>
          <p:cNvSpPr>
            <a:spLocks noGrp="1"/>
          </p:cNvSpPr>
          <p:nvPr>
            <p:ph/>
          </p:nvPr>
        </p:nvSpPr>
        <p:spPr>
          <a:xfrm>
            <a:off x="685800" y="837720"/>
            <a:ext cx="822960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sed on my preliminary understanding from conversations with Satoshi and Yosh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ch of Subaru technical information is contained in one large binder (in Japanese) which several Subaru Hawaii staff have copies o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 large archive of Mitsubishi technical information which is currently being organised by a group in Japa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vailable in Hawaii a reasonably complete set of Mitsubishi telescope drawings. These are available for use by Subaru staff, but might require special arrangements to be distributed outside of Subaru.</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no ICDs as such. During telescope design and construction Mitsubishi used documents, drawings and information exchange to mange the interfac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ment builders for Subaru are provided with a standardised set of information and drawings, then interface issues are handled by frequent meetings and information exchange.</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A1BF8E30-3E1D-4DF8-8DD7-1151B290EC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ES, TIMESCALES &amp; SCHEDULE</a:t>
            </a:r>
            <a:endParaRPr b="0" lang="en-US" sz="2000" spc="-1" strike="noStrike">
              <a:solidFill>
                <a:srgbClr val="000000"/>
              </a:solidFill>
              <a:latin typeface="Times New Roman"/>
            </a:endParaRPr>
          </a:p>
        </p:txBody>
      </p:sp>
      <p:sp>
        <p:nvSpPr>
          <p:cNvPr id="60"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immediately to draft a core set of essential ICDs and specification documents. These could be distributed in the next few weeks as draft, later to be revised and issued as approved ICD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information is refined and/or requirements become clearer, the documents and ICDs may be revised and reissued. Before being issued, revisions can be discussed with both design study teams to obtain feedback as to technical issues or possible substantial changes of scope that might arise from the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r planned timescale/schedule for these core documentation set:</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 Feb</a:t>
            </a:r>
            <a:r>
              <a:rPr b="0" lang="en-US" sz="1600" spc="-1" strike="noStrike">
                <a:solidFill>
                  <a:srgbClr val="000000"/>
                </a:solidFill>
                <a:latin typeface="Times New Roman"/>
              </a:rPr>
              <a:t>: draft versions of main ICDs and major documents distribu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 Apr</a:t>
            </a:r>
            <a:r>
              <a:rPr b="0" lang="en-US" sz="1600" spc="-1" strike="noStrike">
                <a:solidFill>
                  <a:srgbClr val="000000"/>
                </a:solidFill>
                <a:latin typeface="Times New Roman"/>
              </a:rPr>
              <a:t>: approved versions of core documents issued. Draft versions of remainder of documentation and ICD se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 June</a:t>
            </a:r>
            <a:r>
              <a:rPr b="0" lang="en-US" sz="1600" spc="-1" strike="noStrike">
                <a:solidFill>
                  <a:srgbClr val="000000"/>
                </a:solidFill>
                <a:latin typeface="Times New Roman"/>
              </a:rPr>
              <a:t>: complete approved engineering package of documents and ICDs necessary for design study work is issued.</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WFMOS_ICDSysEng</a:t>
            </a:r>
          </a:p>
        </p:txBody>
      </p:sp>
      <p:sp>
        <p:nvSpPr>
          <p:cNvPr id="5" name="PlaceHolder 4"/>
          <p:cNvSpPr>
            <a:spLocks noGrp="1"/>
          </p:cNvSpPr>
          <p:nvPr>
            <p:ph type="sldNum" idx="2"/>
          </p:nvPr>
        </p:nvSpPr>
        <p:spPr/>
        <p:txBody>
          <a:bodyPr/>
          <a:p>
            <a:fld id="{FED74D97-30A0-40D7-A26C-D52102B39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19:21:08Z</dcterms:created>
  <dc:creator>pgray</dc:creator>
  <dc:description/>
  <dc:language>en-US</dc:language>
  <cp:lastModifiedBy>Barnaby Smeaton</cp:lastModifiedBy>
  <dcterms:modified xsi:type="dcterms:W3CDTF">2008-12-08T00:12:48Z</dcterms:modified>
  <cp:revision>53</cp:revision>
  <dc:subject/>
  <dc:title>PowerPoint Presentation</dc:title>
</cp:coreProperties>
</file>