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A70-0BE1-4760-890B-32AF22B7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B9A-CFCB-4FE6-9CC9-280618B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3AA-3968-4F16-A9BD-22541A85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A01-1E79-4625-B885-EFB553D4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8B6-EBDD-4DB4-A62F-225F686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368-5A8F-43B3-B59D-8F360567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D3B-EE0C-4E7E-AD9A-541314B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EC0-0D5C-46DE-AC60-04F51830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C3E-E258-4D6D-B55C-1643EF44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470-D8CC-48F6-BCFE-E77E133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9E5-570B-48C8-8526-DA39E82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165-0437-4339-8A2C-7242F63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E6E-D63A-4E81-84FC-39AFAF5F1D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2.pn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Narrow"/>
              </a:rPr>
              <a:t>WFMOS: a tool for probing dark energ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5449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602240" y="1141200"/>
            <a:ext cx="3551040" cy="4647960"/>
            <a:chOff x="4602240" y="1141200"/>
            <a:chExt cx="3551040" cy="4647960"/>
          </a:xfrm>
        </p:grpSpPr>
        <p:sp>
          <p:nvSpPr>
            <p:cNvPr id="44" name=""/>
            <p:cNvSpPr/>
            <p:nvPr/>
          </p:nvSpPr>
          <p:spPr>
            <a:xfrm rot="16200000">
              <a:off x="4053600" y="1689480"/>
              <a:ext cx="4647960" cy="35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648320" y="1142640"/>
              <a:ext cx="3475080" cy="4646520"/>
              <a:chOff x="4648320" y="1142640"/>
              <a:chExt cx="3475080" cy="464652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6386040" y="5338080"/>
                <a:ext cx="409320" cy="49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6284520" y="3260160"/>
                <a:ext cx="293040" cy="21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6241320" y="1501920"/>
                <a:ext cx="293040" cy="217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5722920" y="68040"/>
                <a:ext cx="1325880" cy="347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flipH="1" flipV="1">
                <a:off x="5373720" y="4474800"/>
                <a:ext cx="1056600" cy="108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6431040" y="4474800"/>
                <a:ext cx="1017720" cy="108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6107040" y="2535840"/>
                <a:ext cx="734400" cy="27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6200000">
                <a:off x="4463280" y="3582720"/>
                <a:ext cx="2838240" cy="1096560"/>
              </a:xfrm>
              <a:custGeom>
                <a:avLst/>
                <a:gdLst/>
                <a:ahLst/>
                <a:rect l="l" t="t" r="r" b="b"/>
                <a:pathLst>
                  <a:path w="4560" h="1344">
                    <a:moveTo>
                      <a:pt x="0" y="1344"/>
                    </a:moveTo>
                    <a:cubicBezTo>
                      <a:pt x="1036" y="928"/>
                      <a:pt x="2072" y="512"/>
                      <a:pt x="2832" y="288"/>
                    </a:cubicBezTo>
                    <a:cubicBezTo>
                      <a:pt x="3592" y="64"/>
                      <a:pt x="4076" y="32"/>
                      <a:pt x="4560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00000">
                <a:off x="5501160" y="3641400"/>
                <a:ext cx="2838240" cy="978840"/>
              </a:xfrm>
              <a:custGeom>
                <a:avLst/>
                <a:gdLst/>
                <a:ahLst/>
                <a:rect l="l" t="t" r="r" b="b"/>
                <a:pathLst>
                  <a:path w="4560" h="1200">
                    <a:moveTo>
                      <a:pt x="0" y="0"/>
                    </a:moveTo>
                    <a:cubicBezTo>
                      <a:pt x="1036" y="380"/>
                      <a:pt x="2072" y="760"/>
                      <a:pt x="2832" y="960"/>
                    </a:cubicBezTo>
                    <a:cubicBezTo>
                      <a:pt x="3592" y="1160"/>
                      <a:pt x="4076" y="1180"/>
                      <a:pt x="4560" y="120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5567400" y="-1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8960" y="5867280"/>
            <a:ext cx="44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Parki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N in Paris, Dec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9440" y="351000"/>
            <a:ext cx="152388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27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WFMOS</a:t>
            </a:r>
            <a:endParaRPr b="0" lang="en-US" sz="1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525600"/>
            <a:ext cx="6553440" cy="6332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505320" y="1515960"/>
            <a:ext cx="2265120" cy="233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1440000"/>
            <a:ext cx="2590920" cy="25905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15238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03800" y="1628640"/>
            <a:ext cx="611280" cy="10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762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</a:rPr>
              <a:t>FLAMES</a:t>
            </a:r>
            <a:endParaRPr b="0" lang="en-US" sz="800" spc="1" strike="noStrike">
              <a:ln w="0">
                <a:noFill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22600" y="1353960"/>
            <a:ext cx="454320" cy="10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46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FMOS</a:t>
            </a:r>
            <a:endParaRPr b="0" lang="en-US" sz="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29400"/>
            <a:ext cx="18288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MOS FoV - Moon and Andromed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2420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KAOSAndromMoon" descr=""/>
          <p:cNvPicPr/>
          <p:nvPr/>
        </p:nvPicPr>
        <p:blipFill>
          <a:blip r:embed="rId1"/>
          <a:stretch/>
        </p:blipFill>
        <p:spPr>
          <a:xfrm>
            <a:off x="838080" y="-457200"/>
            <a:ext cx="7620120" cy="75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1000" y="1371600"/>
            <a:ext cx="4830480" cy="5187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7120" y="464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I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IR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962520"/>
            <a:ext cx="3504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88280" y="4202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638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867280" y="5790600"/>
            <a:ext cx="748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2209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arison of M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elds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L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057400"/>
            <a:ext cx="4670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5 deg ~ 300 Mpc/h at z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3124080"/>
            <a:ext cx="563760" cy="52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F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rveys of Large Scale Structur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1676520"/>
            <a:ext cx="4495680" cy="4495680"/>
            <a:chOff x="609480" y="1676520"/>
            <a:chExt cx="4495680" cy="4495680"/>
          </a:xfrm>
        </p:grpSpPr>
        <p:sp>
          <p:nvSpPr>
            <p:cNvPr id="157" name=""/>
            <p:cNvSpPr/>
            <p:nvPr/>
          </p:nvSpPr>
          <p:spPr>
            <a:xfrm>
              <a:off x="609480" y="167652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040" y="1981440"/>
              <a:ext cx="533520" cy="5331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18960" y="22860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259092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440" y="2895840"/>
              <a:ext cx="533520" cy="5331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33360" y="3200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350532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2840" y="3810240"/>
              <a:ext cx="533520" cy="5331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7760" y="41148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52680" y="441972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57240" y="4724640"/>
              <a:ext cx="533520" cy="5331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160" y="50292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7080" y="533412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1640" y="5639040"/>
              <a:ext cx="533520" cy="5331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572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419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5053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8098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1148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4419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2004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5053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8098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41148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419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1148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419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909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954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2004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5053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8098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1148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419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9810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2860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5909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8954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32004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5053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8098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1148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419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50292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5334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56386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7242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8098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53341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800600"/>
            <a:ext cx="57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FMOS Efficiency Advantag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254480" cy="4876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635360" y="1879560"/>
            <a:ext cx="4253040" cy="4876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10666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da5"/>
                </a:solidFill>
                <a:latin typeface="Arial Narrow"/>
              </a:rPr>
              <a:t>Multiplex-limited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da5"/>
                </a:solidFill>
                <a:latin typeface="Arial Narrow"/>
              </a:rPr>
              <a:t>(density targets &gt; density of fib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10666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da5"/>
                </a:solidFill>
                <a:latin typeface="Arial Narrow"/>
              </a:rPr>
              <a:t>FoV-limited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da5"/>
                </a:solidFill>
                <a:latin typeface="Arial Narrow"/>
              </a:rPr>
              <a:t>(density targets &lt; density of fib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893960"/>
            <a:ext cx="1073160" cy="244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29240" y="1905120"/>
            <a:ext cx="1050840" cy="244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0512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FM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188424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FM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76960" cy="4147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FMOS major science progra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asuring the acoustic oscilla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1480" y="1523880"/>
            <a:ext cx="71118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rk Energy Constrai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03040" y="2021040"/>
            <a:ext cx="87886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ptimis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que Selling Point of BAO is that they act as standard rulers and can probe the dark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oal is to get the best possible constraints on the dark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optimize the survey to do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ing equation of state, w, and its evolution in time is seen as the primary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PS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610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en selecting some parameterization of w (e.g. w(a)=w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+w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/(1+z)) the errors on w of our survey still depends on the fiducial cosmolog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tegrated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ameter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vey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timization (Bassett 2004; Bassett, Parkinson and Nichol 200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gure of Merit is the integral of the performanc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ver the cosmological para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-optimality: performance (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 is measured as the determinant of the Fisher matrix of the dark energy parameters (w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w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[using Linder expansion w(a)=w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+(1-a)w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429000"/>
                <a:ext cx="44514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d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899320" y="595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10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O as a standard rul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oustic Oscillations are imprinted into the matter power spect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amental wavelength fixed at re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as a ‘standard ruler’ to probe   geometry and dark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20960" y="3048120"/>
            <a:ext cx="6322680" cy="3130560"/>
            <a:chOff x="2820960" y="3048120"/>
            <a:chExt cx="6322680" cy="3130560"/>
          </a:xfrm>
        </p:grpSpPr>
        <p:grpSp>
          <p:nvGrpSpPr>
            <p:cNvPr id="60" name=""/>
            <p:cNvGrpSpPr/>
            <p:nvPr/>
          </p:nvGrpSpPr>
          <p:grpSpPr>
            <a:xfrm>
              <a:off x="3659040" y="3048120"/>
              <a:ext cx="5484600" cy="3130560"/>
              <a:chOff x="3659040" y="3048120"/>
              <a:chExt cx="5484600" cy="31305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59040" y="4575960"/>
                <a:ext cx="483120" cy="44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87240" y="3674160"/>
                <a:ext cx="345960" cy="195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63720" y="3636000"/>
                <a:ext cx="345960" cy="19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78720" y="3048120"/>
                <a:ext cx="1564920" cy="31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flipV="1">
                <a:off x="3933360" y="3701880"/>
                <a:ext cx="1277640" cy="951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933360" y="4654080"/>
                <a:ext cx="1277640" cy="916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22320" y="3439080"/>
                <a:ext cx="866880" cy="25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933360" y="4654080"/>
                <a:ext cx="3370320" cy="90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933360" y="3665880"/>
                <a:ext cx="3358800" cy="987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820960" y="5181840"/>
              <a:ext cx="533160" cy="609480"/>
            </a:xfrm>
            <a:prstGeom prst="leftArrow">
              <a:avLst>
                <a:gd name="adj1" fmla="val 53120"/>
                <a:gd name="adj2" fmla="val 4791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20960" y="3048120"/>
            <a:ext cx="6322680" cy="3128760"/>
            <a:chOff x="2820960" y="3048120"/>
            <a:chExt cx="6322680" cy="3128760"/>
          </a:xfrm>
        </p:grpSpPr>
        <p:sp>
          <p:nvSpPr>
            <p:cNvPr id="72" name=""/>
            <p:cNvSpPr/>
            <p:nvPr/>
          </p:nvSpPr>
          <p:spPr>
            <a:xfrm>
              <a:off x="2820960" y="3809880"/>
              <a:ext cx="533160" cy="609120"/>
            </a:xfrm>
            <a:prstGeom prst="leftArrow">
              <a:avLst>
                <a:gd name="adj1" fmla="val 53120"/>
                <a:gd name="adj2" fmla="val 4791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659040" y="3048120"/>
              <a:ext cx="5484600" cy="3128760"/>
              <a:chOff x="3659040" y="3048120"/>
              <a:chExt cx="5484600" cy="3128760"/>
            </a:xfrm>
          </p:grpSpPr>
          <p:pic>
            <p:nvPicPr>
              <p:cNvPr id="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59040" y="4574880"/>
                <a:ext cx="483120" cy="44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7240" y="3673800"/>
                <a:ext cx="345960" cy="19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63720" y="3635640"/>
                <a:ext cx="345960" cy="195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578720" y="3048120"/>
                <a:ext cx="1564920" cy="31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 flipV="1">
                <a:off x="3933360" y="3701160"/>
                <a:ext cx="1277640" cy="951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933360" y="4653360"/>
                <a:ext cx="1277640" cy="916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2320" y="3438720"/>
                <a:ext cx="866880" cy="25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941280" y="3665520"/>
                <a:ext cx="3350520" cy="987480"/>
              </a:xfrm>
              <a:custGeom>
                <a:avLst/>
                <a:gdLst/>
                <a:ahLst/>
                <a:rect l="l" t="t" r="r" b="b"/>
                <a:pathLst>
                  <a:path w="4560" h="1344">
                    <a:moveTo>
                      <a:pt x="0" y="1344"/>
                    </a:moveTo>
                    <a:cubicBezTo>
                      <a:pt x="1036" y="928"/>
                      <a:pt x="2072" y="512"/>
                      <a:pt x="2832" y="288"/>
                    </a:cubicBezTo>
                    <a:cubicBezTo>
                      <a:pt x="3592" y="64"/>
                      <a:pt x="4076" y="32"/>
                      <a:pt x="456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41280" y="4653360"/>
                <a:ext cx="3350520" cy="881280"/>
              </a:xfrm>
              <a:custGeom>
                <a:avLst/>
                <a:gdLst/>
                <a:ahLst/>
                <a:rect l="l" t="t" r="r" b="b"/>
                <a:pathLst>
                  <a:path w="4560" h="1200">
                    <a:moveTo>
                      <a:pt x="0" y="0"/>
                    </a:moveTo>
                    <a:cubicBezTo>
                      <a:pt x="1036" y="380"/>
                      <a:pt x="2072" y="760"/>
                      <a:pt x="2832" y="960"/>
                    </a:cubicBezTo>
                    <a:cubicBezTo>
                      <a:pt x="3592" y="1160"/>
                      <a:pt x="4076" y="1180"/>
                      <a:pt x="4560" y="12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2820960" y="3048120"/>
            <a:ext cx="6322680" cy="3130560"/>
            <a:chOff x="2820960" y="3048120"/>
            <a:chExt cx="6322680" cy="3130560"/>
          </a:xfrm>
        </p:grpSpPr>
        <p:sp>
          <p:nvSpPr>
            <p:cNvPr id="84" name=""/>
            <p:cNvSpPr/>
            <p:nvPr/>
          </p:nvSpPr>
          <p:spPr>
            <a:xfrm>
              <a:off x="2820960" y="4496040"/>
              <a:ext cx="533160" cy="609480"/>
            </a:xfrm>
            <a:prstGeom prst="leftArrow">
              <a:avLst>
                <a:gd name="adj1" fmla="val 53120"/>
                <a:gd name="adj2" fmla="val 4791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659040" y="3048120"/>
              <a:ext cx="5484600" cy="3130560"/>
              <a:chOff x="3659040" y="3048120"/>
              <a:chExt cx="5484600" cy="3130560"/>
            </a:xfrm>
          </p:grpSpPr>
          <p:pic>
            <p:nvPicPr>
              <p:cNvPr id="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9040" y="4575960"/>
                <a:ext cx="483120" cy="44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87240" y="3674160"/>
                <a:ext cx="345960" cy="195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63720" y="3636000"/>
                <a:ext cx="345960" cy="19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578720" y="3048120"/>
                <a:ext cx="1564920" cy="31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flipV="1">
                <a:off x="3933360" y="3701880"/>
                <a:ext cx="1277640" cy="951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33360" y="4654080"/>
                <a:ext cx="1277640" cy="916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760" bIns="50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22320" y="3439080"/>
                <a:ext cx="866880" cy="25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3941280" y="3665880"/>
                <a:ext cx="3350520" cy="987840"/>
              </a:xfrm>
              <a:custGeom>
                <a:avLst/>
                <a:gdLst/>
                <a:ahLst/>
                <a:rect l="l" t="t" r="r" b="b"/>
                <a:pathLst>
                  <a:path w="4560" h="1344">
                    <a:moveTo>
                      <a:pt x="0" y="1344"/>
                    </a:moveTo>
                    <a:cubicBezTo>
                      <a:pt x="1132" y="1192"/>
                      <a:pt x="2264" y="1040"/>
                      <a:pt x="3024" y="816"/>
                    </a:cubicBezTo>
                    <a:cubicBezTo>
                      <a:pt x="3784" y="592"/>
                      <a:pt x="4304" y="136"/>
                      <a:pt x="456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41280" y="4654080"/>
                <a:ext cx="3350520" cy="916920"/>
              </a:xfrm>
              <a:custGeom>
                <a:avLst/>
                <a:gdLst/>
                <a:ahLst/>
                <a:rect l="l" t="t" r="r" b="b"/>
                <a:pathLst>
                  <a:path w="4560" h="1248">
                    <a:moveTo>
                      <a:pt x="0" y="0"/>
                    </a:moveTo>
                    <a:cubicBezTo>
                      <a:pt x="1108" y="184"/>
                      <a:pt x="2216" y="368"/>
                      <a:pt x="2976" y="576"/>
                    </a:cubicBezTo>
                    <a:cubicBezTo>
                      <a:pt x="3736" y="784"/>
                      <a:pt x="4148" y="1016"/>
                      <a:pt x="4560" y="12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152280" y="3733920"/>
            <a:ext cx="25146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ptimization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survey configuration (area coverage, redshift bins, exposure time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number density of galaxies using L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error on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) and H(z) using scaling re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Fisher matrix of parameters, using distance data plus other info (Planck+SDS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Fisher matrix to calculate F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-carlo markov chain search over survey configuration parameter space, attempting to minimize determin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rvey Parame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: split between the high and low redshift regions.  Total time = 1500 hours (expected observing time over three ye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: different areas assigned to high and low redshift reg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ime and number of pointings: generated from area and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shift binning: Redshift regions broken down into a number of b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caling Rela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computationally intensive to find full error covariances for power spectrum (requires FF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errors on x and x’ for a grid of survey parameters and derived fitting formu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hoto-z surveys, assumed Gaussian photometric error 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6640" y="4648320"/>
                <a:ext cx="704376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r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rr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rad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ff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f>
                                <m:num>
                                  <m:r>
                                    <m:t xml:space="preserve">D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D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g</m:t>
                              </m:r>
                            </m:sup>
                          </m:sSup>
                        </m:e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r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rr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rad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ff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f>
                                <m:num>
                                  <m:r>
                                    <m:t xml:space="preserve">D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D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&gt;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2929320" y="1492200"/>
            <a:ext cx="54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paper by Blake, DP, Bassett, Glazebrook, Ku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Nic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tting Formula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7071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te-carlo Markov Chai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onduct an MCMC search through the parameter space, accepting or rejecting surveys depending on the figure of me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optimum survey, have to search over large parameter space (&gt;10 different parameter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degenerate minim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“heat” and “cool” the chains, attempting to guarantee we reach the global min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gn Objectiv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these techniques we can optimiz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observational area in the low and high redshift regi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umber of redshift bins in each reg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dshifts of the b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umber of spectroscopic fib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ain in information from pushing into the redshift dese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ne Emi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00200" y="911160"/>
            <a:ext cx="619452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tinuu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57440" y="838080"/>
            <a:ext cx="611496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rror ellip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230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FMOS is a next generation Multi-Object Spectrograph currently in the design ph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be developed as part of a Subaru-Gemini partn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dominate seeing-limited survey spectrosco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enable flagship high-impact science programs, such as the dark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IPSO the survey will be optimised to extract information about the dark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85800" y="2590920"/>
            <a:ext cx="8458200" cy="3607560"/>
            <a:chOff x="685800" y="2590920"/>
            <a:chExt cx="8458200" cy="3607560"/>
          </a:xfrm>
        </p:grpSpPr>
        <p:sp>
          <p:nvSpPr>
            <p:cNvPr id="97" name=""/>
            <p:cNvSpPr/>
            <p:nvPr/>
          </p:nvSpPr>
          <p:spPr>
            <a:xfrm>
              <a:off x="4495680" y="2896920"/>
              <a:ext cx="4648320" cy="2723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rk matter distributions via kinematics of LG galax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structure of the LMC dis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ilky Way halo survey at 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pulation III and the dSph’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ilky Way interstellar mediu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udies of high-velocity cloud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uiper Belt objec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2590920"/>
              <a:ext cx="7467480" cy="3988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FMOS is also a very broadly capable facility instrument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2896920"/>
              <a:ext cx="4267080" cy="3301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udies of large-scale structu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mation and evolution of galaxies at high redshi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growth of structu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GN physics at high redshi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relation between galaxies and the IGM at high redshi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2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ellar pops in LG galax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FMOS Sci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FMOS has two flagship science progra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oustic oscillation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dark energ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actic archeolog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do galaxies form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89520"/>
            <a:ext cx="91440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da5"/>
                </a:solidFill>
                <a:latin typeface="Arial Narrow"/>
              </a:rPr>
              <a:t>(See KAOS Purple Book - http://www.noao.edu/kaos/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rchival’ Sci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science from survey dat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 dark energy from cluster counts and Alcock-Paczsynki t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troscopically identify thousands of SNe 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reciprocity relation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1+z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constrain GR and photon conservation (axion-photon interac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tely measure luminosity functions &amp; star-formation rate densities with redshift &amp;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 shape of primordial power spectrum to 2% and thus mass of the neutrino to 0.1eV (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Community’ Sci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from other WFMOS observations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studies of local low-luminosity galaxies, down to Mr~-11 (r~24) in the Coma Clu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redshift (z&gt;4) studies of galaxies and QSOs selected from multi-color phot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of M31 and M33 to provide kinematical and abundance information in the bulges and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taneously observing QSOs and galaxies (in the same fields) to quantify the relation between the IGM and the large-scale structures as traced by galax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FMOS Histo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MOS is a proposed second-generation Gemini instrument that emerged from the ‘Aspen’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at, it was the KAOS conceptual instrument        (see http://www.noao.edu/kaos/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ly intended for Gemini, the potential technical, financial, observational and strategic advantages of building WFMOS for Subaru, sharing Gemini &amp; Subaru resources, has since been recogn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FMOS feasibility study has lead to a RfP for two competing concept studies, for review Oct/Nov 20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arget Specifications for WFM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-level design performance guidelines for WFMO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 rang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39–1.0 µ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of view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.5 deg dia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tial sampling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 arcsec fiber ent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tral resolut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–40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shot coverag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0.4 µm (at low resolu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taneous targets: 4000–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antages of WFM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fferentiates WFMOS from other instru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eld area: the FoV of WFMOS is 10x larger than that of any other 8m multi-object spectrogra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x: multiplex gain of WFMOS is 5x that of any other 8m MOS (though fiber density is relatively low compared to multi-slit instrumen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ing magnitude: with nod &amp; shuffle designed-in, WFMOS is not limited by sky-subtraction systematics when compared to multi-slit instru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MOS can deliver of order 20,000 spectra per nigh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632448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ment Compari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304920" y="312840"/>
            <a:ext cx="8610120" cy="6163560"/>
            <a:chOff x="304920" y="312840"/>
            <a:chExt cx="8610120" cy="6163560"/>
          </a:xfrm>
        </p:grpSpPr>
        <p:sp>
          <p:nvSpPr>
            <p:cNvPr id="117" name=""/>
            <p:cNvSpPr/>
            <p:nvPr/>
          </p:nvSpPr>
          <p:spPr>
            <a:xfrm>
              <a:off x="304920" y="312840"/>
              <a:ext cx="8610120" cy="612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30560" y="573120"/>
              <a:ext cx="8344080" cy="5903280"/>
              <a:chOff x="430560" y="573120"/>
              <a:chExt cx="8344080" cy="5903280"/>
            </a:xfrm>
          </p:grpSpPr>
          <p:pic>
            <p:nvPicPr>
              <p:cNvPr id="119" name="KOAS field comparison aperture order 1" descr=""/>
              <p:cNvPicPr/>
              <p:nvPr/>
            </p:nvPicPr>
            <p:blipFill>
              <a:blip r:embed="rId2"/>
              <a:srcRect l="0" t="9346" r="0" b="9346"/>
              <a:stretch/>
            </p:blipFill>
            <p:spPr>
              <a:xfrm>
                <a:off x="430560" y="573120"/>
                <a:ext cx="4112640" cy="20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KOAS field comparison aperture order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560" y="2626560"/>
                <a:ext cx="4112640" cy="249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KOAS field comparison aperture order 4" descr=""/>
              <p:cNvPicPr/>
              <p:nvPr/>
            </p:nvPicPr>
            <p:blipFill>
              <a:blip r:embed="rId4"/>
              <a:srcRect l="0" t="28037" r="0" b="28037"/>
              <a:stretch/>
            </p:blipFill>
            <p:spPr>
              <a:xfrm>
                <a:off x="430560" y="5380920"/>
                <a:ext cx="4112640" cy="109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KOAS field comparison aperture order 5" descr=""/>
              <p:cNvPicPr/>
              <p:nvPr/>
            </p:nvPicPr>
            <p:blipFill>
              <a:blip r:embed="rId5"/>
              <a:stretch/>
            </p:blipFill>
            <p:spPr>
              <a:xfrm>
                <a:off x="4600080" y="1432440"/>
                <a:ext cx="4112280" cy="249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KOAS field comparison aperture order 4" descr=""/>
              <p:cNvPicPr/>
              <p:nvPr/>
            </p:nvPicPr>
            <p:blipFill>
              <a:blip r:embed="rId6"/>
              <a:srcRect l="0" t="0" r="0" b="69166"/>
              <a:stretch/>
            </p:blipFill>
            <p:spPr>
              <a:xfrm>
                <a:off x="4662000" y="573120"/>
                <a:ext cx="4112640" cy="76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KOAS field comparison aperture order 6" descr=""/>
              <p:cNvPicPr/>
              <p:nvPr/>
            </p:nvPicPr>
            <p:blipFill>
              <a:blip r:embed="rId7"/>
              <a:srcRect l="0" t="0" r="0" b="3738"/>
              <a:stretch/>
            </p:blipFill>
            <p:spPr>
              <a:xfrm>
                <a:off x="4608360" y="4029480"/>
                <a:ext cx="4112280" cy="240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" name=""/>
          <p:cNvSpPr/>
          <p:nvPr/>
        </p:nvSpPr>
        <p:spPr>
          <a:xfrm rot="16200000">
            <a:off x="242280" y="3186720"/>
            <a:ext cx="706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F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743200"/>
            <a:ext cx="403848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1:42:33Z</dcterms:created>
  <dc:creator>ITS ITS</dc:creator>
  <dc:description/>
  <dc:language>en-US</dc:language>
  <cp:lastModifiedBy>ITS ITS</cp:lastModifiedBy>
  <dcterms:modified xsi:type="dcterms:W3CDTF">2005-12-09T13:02:01Z</dcterms:modified>
  <cp:revision>26</cp:revision>
  <dc:subject/>
  <dc:title>WFMOS</dc:title>
</cp:coreProperties>
</file>